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gif" ContentType="image/gif"/>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E1B0E-5941-4E4B-B449-FAAB99ED7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774E-AFD4-4116-9772-F1FC1F973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69F4E-E631-42C4-A5AD-123CBD180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5FBD-95FA-469B-80A9-18FEEDEB5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679F8-AC53-4661-87E1-56D6CD030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AC4FA-3790-4706-BBE5-6B0EBF9E6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86221-5236-40B2-A986-45FE2F684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B6AA5-2B06-4F6B-A7F9-1F8CBC4BF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2D7DA-37A8-42F0-852D-C4AF1E468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5DE72-D63A-476F-B14A-28D41EE2D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A1E4F-A177-40EE-AFF0-D82DEFB24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B9266-6417-47FC-85B0-01E01F14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5ACD8-2129-4C6D-AE5F-CAACB88DB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FBF7D-0F19-4CDF-892D-5FF5B9307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4A1D0-61B0-4290-BED0-37DD9CA27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7BF0D-9A0C-4BE1-8A41-5A6842527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4FF59-CD77-4448-88AD-D1B8DFCC2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E440-25DD-49B3-8FB3-8587DEF6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DFEB-1FDD-4FC3-9351-896F6B3E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FB2E9-D91C-429C-A674-9DDA80B52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85431-7010-4092-9E94-3D22653A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CAC7-22DD-49E1-9517-13965B8C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9D62-2215-478F-BD9A-5D0D26B4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07C2-4D36-4615-BF9B-535834955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57A5-2BBD-45A6-97DC-1CE1A6F67A65}"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7019-2BCA-4902-A729-4478D0A63D10}"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 </a:t>
            </a:r>
            <a:r>
              <a:rPr b="0" lang="en-US" sz="4800" spc="-1" strike="noStrike">
                <a:solidFill>
                  <a:srgbClr val="ff3300"/>
                </a:solidFill>
                <a:latin typeface="Tahoma"/>
              </a:rPr>
              <a:t>Physical Education</a:t>
            </a:r>
            <a:endParaRPr b="0" lang="en-US" sz="4800" spc="-1" strike="noStrike">
              <a:solidFill>
                <a:srgbClr val="ffffcc"/>
              </a:solidFill>
              <a:latin typeface="Tahoma"/>
            </a:endParaRPr>
          </a:p>
        </p:txBody>
      </p:sp>
      <p:sp>
        <p:nvSpPr>
          <p:cNvPr id="88" name="PlaceHolder 2"/>
          <p:cNvSpPr>
            <a:spLocks noGrp="1"/>
          </p:cNvSpPr>
          <p:nvPr>
            <p:ph/>
          </p:nvPr>
        </p:nvSpPr>
        <p:spPr>
          <a:xfrm>
            <a:off x="456840" y="1600200"/>
            <a:ext cx="476244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iples of Training</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89" name="" descr=""/>
          <p:cNvPicPr/>
          <p:nvPr/>
        </p:nvPicPr>
        <p:blipFill>
          <a:blip r:embed="rId1"/>
          <a:stretch/>
        </p:blipFill>
        <p:spPr>
          <a:xfrm>
            <a:off x="826920" y="2421000"/>
            <a:ext cx="3529080" cy="3744720"/>
          </a:xfrm>
          <a:prstGeom prst="rect">
            <a:avLst/>
          </a:prstGeom>
          <a:ln w="0">
            <a:noFill/>
          </a:ln>
        </p:spPr>
      </p:pic>
      <p:pic>
        <p:nvPicPr>
          <p:cNvPr id="90" name="" descr=""/>
          <p:cNvPicPr/>
          <p:nvPr/>
        </p:nvPicPr>
        <p:blipFill>
          <a:blip r:embed="rId2"/>
          <a:stretch/>
        </p:blipFill>
        <p:spPr>
          <a:xfrm>
            <a:off x="5508720" y="1484280"/>
            <a:ext cx="3311280" cy="46814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nsity</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hard should you tr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epend on baseline resul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les and Physiological systems adapt as a result of consistently applied stim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he right amount of intensit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ee overloa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Duration</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ime of stress on the muscles or physiological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iffer widely depending on what the outcome required 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time or distanc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aerobic (interval work)</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3300"/>
                </a:solidFill>
                <a:latin typeface="Tahoma"/>
              </a:rPr>
              <a:t>Overload (Progressive)</a:t>
            </a:r>
            <a:endParaRPr b="0" lang="en-US" sz="4400" spc="-1" strike="noStrike">
              <a:solidFill>
                <a:srgbClr val="ffffcc"/>
              </a:solidFill>
              <a:latin typeface="Tahoma"/>
            </a:endParaRPr>
          </a:p>
        </p:txBody>
      </p:sp>
      <p:sp>
        <p:nvSpPr>
          <p:cNvPr id="114" name="PlaceHolder 2"/>
          <p:cNvSpPr>
            <a:spLocks noGrp="1"/>
          </p:cNvSpPr>
          <p:nvPr>
            <p:ph/>
          </p:nvPr>
        </p:nvSpPr>
        <p:spPr>
          <a:xfrm>
            <a:off x="0" y="1599840"/>
            <a:ext cx="78120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The body takes time to adapt to more or harder exercise. We must build up stress on our bodies in a gradual, or progressive way ie increasing distance or number of reps</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hat will happen if we build up stress on the body too quickly or slowly?</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e will increase the risk of injury or may become disinterested or bored and give up.</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5" name="" descr=""/>
          <p:cNvPicPr/>
          <p:nvPr/>
        </p:nvPicPr>
        <p:blipFill>
          <a:blip r:embed="rId1"/>
          <a:stretch/>
        </p:blipFill>
        <p:spPr>
          <a:xfrm>
            <a:off x="7380360" y="3716280"/>
            <a:ext cx="2016000" cy="28083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Overload</a:t>
            </a:r>
            <a:endParaRPr b="0" lang="en-US" sz="4400" spc="-1" strike="noStrike">
              <a:solidFill>
                <a:srgbClr val="ffffcc"/>
              </a:solidFill>
              <a:latin typeface="Tahoma"/>
            </a:endParaRPr>
          </a:p>
        </p:txBody>
      </p:sp>
      <p:sp>
        <p:nvSpPr>
          <p:cNvPr id="117"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te simply, we can only achieve improvements in most aspects of physical performance by forcing the body to work beyond it’s current known limits. In other words we OVERLOAD i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xample</a:t>
            </a:r>
            <a:r>
              <a:rPr b="0" lang="en-US" sz="2600" spc="-1" strike="noStrike">
                <a:solidFill>
                  <a:srgbClr val="ffffff"/>
                </a:solidFill>
                <a:latin typeface="Tahoma"/>
              </a:rPr>
              <a:t> – to improve our aerobic fitness by running, we could run more times a week, complete the run in a shorter time or increase the distance we run. Each one of these will overload the aerobic system. The aerobic system will gradually adapt to cope with the overload and we will become fitter.</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pecificit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type of exercise has a particular effect on the body. The type of training we choose </a:t>
            </a:r>
            <a:r>
              <a:rPr b="1" lang="en-US" sz="3200" spc="-1" strike="noStrike">
                <a:solidFill>
                  <a:srgbClr val="ffffff"/>
                </a:solidFill>
                <a:latin typeface="Tahoma"/>
              </a:rPr>
              <a:t>MUST</a:t>
            </a:r>
            <a:r>
              <a:rPr b="0" lang="en-US" sz="3200" spc="-1" strike="noStrike">
                <a:solidFill>
                  <a:srgbClr val="ffffff"/>
                </a:solidFill>
                <a:latin typeface="Tahoma"/>
              </a:rPr>
              <a:t> be right for the type of improvement we want to se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must always use a training programme that puts </a:t>
            </a:r>
            <a:r>
              <a:rPr b="1" lang="en-US" sz="3200" spc="-1" strike="noStrike">
                <a:solidFill>
                  <a:srgbClr val="ffffff"/>
                </a:solidFill>
                <a:latin typeface="Tahoma"/>
              </a:rPr>
              <a:t>regular stress</a:t>
            </a:r>
            <a:r>
              <a:rPr b="0" lang="en-US" sz="3200" spc="-1" strike="noStrike">
                <a:solidFill>
                  <a:srgbClr val="ffffff"/>
                </a:solidFill>
                <a:latin typeface="Tahoma"/>
              </a:rPr>
              <a:t> on the muscle groups or body system that we want to develop.</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aptation</a:t>
            </a:r>
            <a:endParaRPr b="0" lang="en-US" sz="4400" spc="-1" strike="noStrike">
              <a:solidFill>
                <a:srgbClr val="ffffcc"/>
              </a:solidFill>
              <a:latin typeface="Tahoma"/>
            </a:endParaRPr>
          </a:p>
        </p:txBody>
      </p:sp>
      <p:sp>
        <p:nvSpPr>
          <p:cNvPr id="121"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Greatest improvement are seen early in a training progra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otivation and increased intensity to produce further improvemen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
          <p:cNvSpPr/>
          <p:nvPr/>
        </p:nvSpPr>
        <p:spPr>
          <a:xfrm>
            <a:off x="2411280" y="350028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411280" y="5661000"/>
            <a:ext cx="47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670120" y="3632040"/>
            <a:ext cx="2765520" cy="1905120"/>
          </a:xfrm>
          <a:custGeom>
            <a:avLst/>
            <a:gdLst/>
            <a:ahLst/>
            <a:rect l="l" t="t" r="r" b="b"/>
            <a:pathLst>
              <a:path w="1742" h="1200">
                <a:moveTo>
                  <a:pt x="7" y="1200"/>
                </a:moveTo>
                <a:cubicBezTo>
                  <a:pt x="10" y="1152"/>
                  <a:pt x="0" y="1100"/>
                  <a:pt x="22" y="1058"/>
                </a:cubicBezTo>
                <a:cubicBezTo>
                  <a:pt x="28" y="1046"/>
                  <a:pt x="39" y="1037"/>
                  <a:pt x="46" y="1026"/>
                </a:cubicBezTo>
                <a:cubicBezTo>
                  <a:pt x="52" y="1016"/>
                  <a:pt x="57" y="1005"/>
                  <a:pt x="62" y="994"/>
                </a:cubicBezTo>
                <a:cubicBezTo>
                  <a:pt x="106" y="896"/>
                  <a:pt x="152" y="792"/>
                  <a:pt x="212" y="702"/>
                </a:cubicBezTo>
                <a:cubicBezTo>
                  <a:pt x="228" y="639"/>
                  <a:pt x="206" y="697"/>
                  <a:pt x="243" y="655"/>
                </a:cubicBezTo>
                <a:cubicBezTo>
                  <a:pt x="255" y="641"/>
                  <a:pt x="275" y="608"/>
                  <a:pt x="275" y="608"/>
                </a:cubicBezTo>
                <a:cubicBezTo>
                  <a:pt x="286" y="564"/>
                  <a:pt x="316" y="551"/>
                  <a:pt x="346" y="521"/>
                </a:cubicBezTo>
                <a:cubicBezTo>
                  <a:pt x="398" y="469"/>
                  <a:pt x="432" y="396"/>
                  <a:pt x="488" y="347"/>
                </a:cubicBezTo>
                <a:cubicBezTo>
                  <a:pt x="499" y="337"/>
                  <a:pt x="515" y="333"/>
                  <a:pt x="527" y="324"/>
                </a:cubicBezTo>
                <a:cubicBezTo>
                  <a:pt x="560" y="299"/>
                  <a:pt x="593" y="266"/>
                  <a:pt x="622" y="237"/>
                </a:cubicBezTo>
                <a:cubicBezTo>
                  <a:pt x="634" y="225"/>
                  <a:pt x="669" y="221"/>
                  <a:pt x="669" y="221"/>
                </a:cubicBezTo>
                <a:cubicBezTo>
                  <a:pt x="707" y="164"/>
                  <a:pt x="657" y="230"/>
                  <a:pt x="717" y="182"/>
                </a:cubicBezTo>
                <a:cubicBezTo>
                  <a:pt x="735" y="168"/>
                  <a:pt x="748" y="150"/>
                  <a:pt x="764" y="134"/>
                </a:cubicBezTo>
                <a:cubicBezTo>
                  <a:pt x="776" y="122"/>
                  <a:pt x="795" y="124"/>
                  <a:pt x="811" y="119"/>
                </a:cubicBezTo>
                <a:cubicBezTo>
                  <a:pt x="819" y="116"/>
                  <a:pt x="835" y="111"/>
                  <a:pt x="835" y="111"/>
                </a:cubicBezTo>
                <a:cubicBezTo>
                  <a:pt x="864" y="67"/>
                  <a:pt x="899" y="83"/>
                  <a:pt x="946" y="71"/>
                </a:cubicBezTo>
                <a:cubicBezTo>
                  <a:pt x="1025" y="30"/>
                  <a:pt x="935" y="71"/>
                  <a:pt x="1111" y="48"/>
                </a:cubicBezTo>
                <a:cubicBezTo>
                  <a:pt x="1161" y="41"/>
                  <a:pt x="1208" y="10"/>
                  <a:pt x="1261" y="8"/>
                </a:cubicBezTo>
                <a:cubicBezTo>
                  <a:pt x="1503" y="0"/>
                  <a:pt x="1568" y="0"/>
                  <a:pt x="174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39640" y="393372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Improvement</a:t>
            </a:r>
            <a:endParaRPr b="0" lang="en-US" sz="1800" spc="-1" strike="noStrike">
              <a:solidFill>
                <a:srgbClr val="ffffff"/>
              </a:solidFill>
              <a:latin typeface="Arial"/>
            </a:endParaRPr>
          </a:p>
        </p:txBody>
      </p:sp>
      <p:sp>
        <p:nvSpPr>
          <p:cNvPr id="126" name=""/>
          <p:cNvSpPr/>
          <p:nvPr/>
        </p:nvSpPr>
        <p:spPr>
          <a:xfrm>
            <a:off x="277164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im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egularity</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imilar to frequenc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o have consistent regular training of muscles and energy systems for improvem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cess of REVERSIBILITY applies to most aspects of physical performance. It means that the effects (or improvements) of training will be lost at about one third of the rate at which they were gain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lose our aerobic fitness more easily than our anaerobic fitness because our muscles quickly lose much of their ability to use oxyg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anaerobic fitness is affected less by not training.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Variety</a:t>
            </a:r>
            <a:endParaRPr b="0" lang="en-US" sz="4400" spc="-1" strike="noStrike">
              <a:solidFill>
                <a:srgbClr val="ffffcc"/>
              </a:solidFill>
              <a:latin typeface="Tahoma"/>
            </a:endParaRPr>
          </a:p>
        </p:txBody>
      </p:sp>
      <p:sp>
        <p:nvSpPr>
          <p:cNvPr id="134" name="PlaceHolder 2"/>
          <p:cNvSpPr>
            <a:spLocks noGrp="1"/>
          </p:cNvSpPr>
          <p:nvPr>
            <p:ph/>
          </p:nvPr>
        </p:nvSpPr>
        <p:spPr>
          <a:xfrm>
            <a:off x="250560" y="1268280"/>
            <a:ext cx="8713800" cy="5400720"/>
          </a:xfrm>
          <a:prstGeom prst="rect">
            <a:avLst/>
          </a:prstGeom>
          <a:noFill/>
          <a:ln w="0">
            <a:noFill/>
          </a:ln>
          <a:effectLst>
            <a:outerShdw dist="36147" dir="2700000" blurRad="0" rotWithShape="0">
              <a:srgbClr val="8c0000"/>
            </a:outerShdw>
          </a:effectLst>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training programme must be varied to avoid boredom. This should not be a factor in our train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Training Principle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771516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reparing your exercise programme, you need to bear in mind the follow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0" lang="en-US" sz="2800" spc="-1" strike="noStrike">
                <a:solidFill>
                  <a:srgbClr val="ffffff"/>
                </a:solidFill>
                <a:latin typeface="Tahoma"/>
              </a:rPr>
              <a:t> </a:t>
            </a:r>
            <a:r>
              <a:rPr b="1" lang="en-US" sz="2800" spc="-1" strike="noStrike">
                <a:solidFill>
                  <a:srgbClr val="ffffff"/>
                </a:solidFill>
                <a:latin typeface="Tahoma"/>
              </a:rPr>
              <a:t>the individual and their require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specific components of fitnes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warm up and cool down</a:t>
            </a:r>
            <a:endParaRPr b="0" lang="en-US" sz="2800" spc="-1" strike="noStrike">
              <a:solidFill>
                <a:srgbClr val="ffffff"/>
              </a:solidFill>
              <a:latin typeface="Tahoma"/>
            </a:endParaRPr>
          </a:p>
        </p:txBody>
      </p:sp>
      <p:pic>
        <p:nvPicPr>
          <p:cNvPr id="93" name="" descr=""/>
          <p:cNvPicPr/>
          <p:nvPr/>
        </p:nvPicPr>
        <p:blipFill>
          <a:blip r:embed="rId1"/>
          <a:stretch/>
        </p:blipFill>
        <p:spPr>
          <a:xfrm>
            <a:off x="5435640" y="4521240"/>
            <a:ext cx="3024000" cy="13557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hods of Training</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tinuous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eigh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ircui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rval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llisthen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lyometric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38" name="PlaceHolder 2"/>
          <p:cNvSpPr>
            <a:spLocks noGrp="1"/>
          </p:cNvSpPr>
          <p:nvPr>
            <p:ph/>
          </p:nvPr>
        </p:nvSpPr>
        <p:spPr>
          <a:xfrm>
            <a:off x="456840" y="1600200"/>
            <a:ext cx="8002440" cy="4495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arm up?</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needs to be well prepared for physical exercise. It is not such a good idea to suddenly begin strenuous activity and expect the body’s systems to adapt instantly without injury. As part of this preparation we need to ensure the follow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9" name="" descr=""/>
          <p:cNvPicPr/>
          <p:nvPr/>
        </p:nvPicPr>
        <p:blipFill>
          <a:blip r:embed="rId1"/>
          <a:stretch/>
        </p:blipFill>
        <p:spPr>
          <a:xfrm>
            <a:off x="4140360" y="1052640"/>
            <a:ext cx="3095640" cy="18716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Pulse rate should be gradually rais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Joint flexibility should be addressed through a series of moderate stretching and mobility exercis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kills that are part of the activity can be part of your warm up.</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Performer to become mentally focused on the activity.</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arm up and Cool down</a:t>
            </a:r>
            <a:br>
              <a:rPr sz="4000"/>
            </a:br>
            <a:r>
              <a:rPr b="0" lang="en-US" sz="4000" spc="-1" strike="noStrike">
                <a:solidFill>
                  <a:srgbClr val="ff3300"/>
                </a:solidFill>
                <a:latin typeface="Tahoma"/>
              </a:rPr>
              <a:t>environment</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07552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possible the warm-up environment should resemble that of the competi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 Swimmers should warm up in a practice pool, weightlifters should warm up in a weight-room.</a:t>
            </a:r>
            <a:endParaRPr b="0" lang="en-US" sz="2800" spc="-1" strike="noStrike">
              <a:solidFill>
                <a:srgbClr val="ffffff"/>
              </a:solidFill>
              <a:latin typeface="Tahoma"/>
            </a:endParaRPr>
          </a:p>
        </p:txBody>
      </p:sp>
      <p:pic>
        <p:nvPicPr>
          <p:cNvPr id="144" name="" descr=""/>
          <p:cNvPicPr/>
          <p:nvPr/>
        </p:nvPicPr>
        <p:blipFill>
          <a:blip r:embed="rId1"/>
          <a:stretch/>
        </p:blipFill>
        <p:spPr>
          <a:xfrm>
            <a:off x="4932360" y="4292640"/>
            <a:ext cx="3600360" cy="216072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ol dow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urpose of the cool down is, in many respects, the exact opposite of the warm up.</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ody has been working at a maximum level in competition or in training and must be allowed to return gradually to it’s normal resting rat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8" name="PlaceHolder 2"/>
          <p:cNvSpPr>
            <a:spLocks noGrp="1"/>
          </p:cNvSpPr>
          <p:nvPr>
            <p:ph/>
          </p:nvPr>
        </p:nvSpPr>
        <p:spPr>
          <a:xfrm>
            <a:off x="250920" y="1412640"/>
            <a:ext cx="859464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exercise, the heart rate is much faster during exercise than normal and blood is being pumped around the body at a higher rate. Suddenly stopping this physical activity will cause blood to pool in the bodies tissues, which effectively then has nowhere to g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heart slows down too quickly, this can also slow down the removal of </a:t>
            </a:r>
            <a:r>
              <a:rPr b="1" lang="en-US" sz="2800" spc="-1" strike="noStrike">
                <a:solidFill>
                  <a:srgbClr val="ffffff"/>
                </a:solidFill>
                <a:latin typeface="Tahoma"/>
              </a:rPr>
              <a:t>LACTIC ACID</a:t>
            </a:r>
            <a:r>
              <a:rPr b="0" lang="en-US" sz="2800" spc="-1" strike="noStrike">
                <a:solidFill>
                  <a:srgbClr val="ffffff"/>
                </a:solidFill>
                <a:latin typeface="Tahoma"/>
              </a:rPr>
              <a:t> from the muscle tissues and can cause muscle soreness when the body finally cools dow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ontinuous Training</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dio respiratory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uration (min of 20-25 minut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HR 70%-85% of max H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verload (</a:t>
            </a:r>
            <a:r>
              <a:rPr b="0" lang="en-NZ" sz="3200" spc="-1" strike="noStrike">
                <a:solidFill>
                  <a:srgbClr val="ffffff"/>
                </a:solidFill>
                <a:latin typeface="Arial Unicode MS"/>
                <a:ea typeface="Arial Unicode MS"/>
              </a:rPr>
              <a:t>↑intensity, ↑duration, ↑frequenc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Weight Trai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 </a:t>
            </a:r>
            <a:r>
              <a:rPr b="0" lang="en-NZ" sz="3200" spc="-1" strike="noStrike">
                <a:solidFill>
                  <a:srgbClr val="ffffff"/>
                </a:solidFill>
                <a:latin typeface="Arial Unicode MS"/>
                <a:ea typeface="Arial Unicode MS"/>
              </a:rPr>
              <a:t>↑re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isotonic traditional weights isometric immovable object isokinetic machines, eccentric lengthening muscl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ircuit Training</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circuit of different exercises.  Can be for general fitness or Specific to a spo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endurance/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ility and skil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n use timing or an amou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Training</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igned for all three energy sys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lternating work and rest perio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pendent on what energy system you are targeting (see next three slid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5" name="PlaceHolder 2"/>
          <p:cNvSpPr>
            <a:spLocks noGrp="1"/>
          </p:cNvSpPr>
          <p:nvPr>
            <p:ph/>
          </p:nvPr>
        </p:nvSpPr>
        <p:spPr>
          <a:xfrm>
            <a:off x="178920" y="1599840"/>
            <a:ext cx="6913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you must establish the purpose of the exercise programme. In our case we are preparing for a triathlon at the end of this ter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frame will influence the nature and possibly the severity of the programme you intend to plan.</a:t>
            </a:r>
            <a:endParaRPr b="0" lang="en-US" sz="2400" spc="-1" strike="noStrike">
              <a:solidFill>
                <a:srgbClr val="ffffff"/>
              </a:solidFill>
              <a:latin typeface="Tahoma"/>
            </a:endParaRPr>
          </a:p>
        </p:txBody>
      </p:sp>
      <p:pic>
        <p:nvPicPr>
          <p:cNvPr id="96" name="" descr=""/>
          <p:cNvPicPr/>
          <p:nvPr/>
        </p:nvPicPr>
        <p:blipFill>
          <a:blip r:embed="rId1"/>
          <a:stretch/>
        </p:blipFill>
        <p:spPr>
          <a:xfrm>
            <a:off x="7020000" y="1341360"/>
            <a:ext cx="1871640" cy="446400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ATP-CP</a:t>
            </a:r>
            <a:endParaRPr b="0" lang="en-US" sz="4400" spc="-1" strike="noStrike">
              <a:solidFill>
                <a:srgbClr val="ffffcc"/>
              </a:solidFill>
              <a:latin typeface="Tahoma"/>
            </a:endParaRPr>
          </a:p>
        </p:txBody>
      </p:sp>
      <p:graphicFrame>
        <p:nvGraphicFramePr>
          <p:cNvPr id="158"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0-10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naerobic ATP-Lactic Acid</a:t>
            </a:r>
            <a:endParaRPr b="0" lang="en-US" sz="4400" spc="-1" strike="noStrike">
              <a:solidFill>
                <a:srgbClr val="ffffcc"/>
              </a:solidFill>
              <a:latin typeface="Tahoma"/>
            </a:endParaRPr>
          </a:p>
        </p:txBody>
      </p:sp>
      <p:graphicFrame>
        <p:nvGraphicFramePr>
          <p:cNvPr id="160" name=""/>
          <p:cNvGraphicFramePr/>
          <p:nvPr/>
        </p:nvGraphicFramePr>
        <p:xfrm>
          <a:off x="457200" y="1628640"/>
          <a:ext cx="8229600" cy="4467240"/>
        </p:xfrm>
        <a:graphic>
          <a:graphicData uri="http://schemas.openxmlformats.org/drawingml/2006/table">
            <a:tbl>
              <a:tblPr/>
              <a:tblGrid>
                <a:gridCol w="4114800"/>
                <a:gridCol w="4114800"/>
              </a:tblGrid>
              <a:tr h="61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30-12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90 -36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erobic Energy System</a:t>
            </a:r>
            <a:endParaRPr b="0" lang="en-US" sz="4400" spc="-1" strike="noStrike">
              <a:solidFill>
                <a:srgbClr val="ffffcc"/>
              </a:solidFill>
              <a:latin typeface="Tahoma"/>
            </a:endParaRPr>
          </a:p>
        </p:txBody>
      </p:sp>
      <p:graphicFrame>
        <p:nvGraphicFramePr>
          <p:cNvPr id="162"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secs – 3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 to 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inima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allisthenics</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sistance using body wei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ress ups, sit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trength one handed press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ndurance increase repeti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 do press ups fast (explosi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lyometric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volves muscles contracting explosively to overcome the body’s weigh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ccentric (lengthening) immediately followed by concentric (shortening) of  musc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Uses reflexes and elastic properties of muscle to develop explosivenes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initial assessment may also need to be reviewed every so often in the light of progress and any change of circumstances: for example, illness or periods when commitments at work make it difficult to find time to exercise.</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Component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ed of Reac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Energy Systems=ATP produc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CP  (fight or flight response) about 60m flat out.  No O</a:t>
            </a:r>
            <a:r>
              <a:rPr b="0" lang="en-NZ" sz="3200" spc="-1" strike="noStrike" baseline="-25000">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Lactic Acid Anaerobic (short term) Glycogen (CHO) High intensity 30secs – 2mi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a:t>
            </a:r>
            <a:r>
              <a:rPr b="0" lang="en-NZ" sz="3200" spc="-1" strike="noStrike" baseline="-25000">
                <a:solidFill>
                  <a:srgbClr val="ffffff"/>
                </a:solidFill>
                <a:latin typeface="Tahoma"/>
              </a:rPr>
              <a:t>2 </a:t>
            </a:r>
            <a:r>
              <a:rPr b="0" lang="en-NZ" sz="3200" spc="-1" strike="noStrike">
                <a:solidFill>
                  <a:srgbClr val="ffffff"/>
                </a:solidFill>
                <a:latin typeface="Tahoma"/>
              </a:rPr>
              <a:t>not used so lactic acid builds up</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CHO and Fat. Longer exercise lower intensi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Principles of Training</a:t>
            </a:r>
            <a:endParaRPr b="0" lang="en-US" sz="4400" spc="-1" strike="noStrike">
              <a:solidFill>
                <a:srgbClr val="ffffcc"/>
              </a:solidFill>
              <a:latin typeface="Tahoma"/>
            </a:endParaRPr>
          </a:p>
        </p:txBody>
      </p:sp>
      <p:sp>
        <p:nvSpPr>
          <p:cNvPr id="10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train to improve our fitness. For steady progress and to avoid injury we should follow the SPORT principles of train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incipals of Training</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F</a:t>
            </a:r>
            <a:r>
              <a:rPr b="0" lang="en-GB" sz="2800" spc="-1" strike="noStrike">
                <a:solidFill>
                  <a:srgbClr val="ffffff"/>
                </a:solidFill>
                <a:latin typeface="Tahoma"/>
              </a:rPr>
              <a:t>requen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I</a:t>
            </a:r>
            <a:r>
              <a:rPr b="0" lang="en-NZ" sz="2800" spc="-1" strike="noStrike">
                <a:solidFill>
                  <a:srgbClr val="ffffff"/>
                </a:solidFill>
                <a:latin typeface="Tahoma"/>
              </a:rPr>
              <a:t>ntens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D</a:t>
            </a:r>
            <a:r>
              <a:rPr b="0" lang="en-NZ" sz="2800" spc="-1" strike="noStrike">
                <a:solidFill>
                  <a:srgbClr val="ffffff"/>
                </a:solidFill>
                <a:latin typeface="Tahoma"/>
              </a:rPr>
              <a:t>ur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O</a:t>
            </a:r>
            <a:r>
              <a:rPr b="0" lang="en-NZ" sz="2800" spc="-1" strike="noStrike">
                <a:solidFill>
                  <a:srgbClr val="ffffff"/>
                </a:solidFill>
                <a:latin typeface="Tahoma"/>
              </a:rPr>
              <a:t>verload (Progressiv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a:t>
            </a:r>
            <a:r>
              <a:rPr b="0" lang="en-GB" sz="2800" spc="-1" strike="noStrike">
                <a:solidFill>
                  <a:srgbClr val="ffffff"/>
                </a:solidFill>
                <a:latin typeface="Tahoma"/>
              </a:rPr>
              <a:t>pecific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A</a:t>
            </a:r>
            <a:r>
              <a:rPr b="0" lang="en-NZ" sz="2800" spc="-1" strike="noStrike">
                <a:solidFill>
                  <a:srgbClr val="ffffff"/>
                </a:solidFill>
                <a:latin typeface="Tahoma"/>
              </a:rPr>
              <a:t>dapt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R</a:t>
            </a:r>
            <a:r>
              <a:rPr b="0" lang="en-NZ" sz="2800" spc="-1" strike="noStrike">
                <a:solidFill>
                  <a:srgbClr val="ffffff"/>
                </a:solidFill>
                <a:latin typeface="Tahoma"/>
              </a:rPr>
              <a:t>egular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a:t>
            </a:r>
            <a:r>
              <a:rPr b="0" lang="en-GB" sz="2800" spc="-1" strike="noStrike">
                <a:solidFill>
                  <a:srgbClr val="ffffff"/>
                </a:solidFill>
                <a:latin typeface="Tahoma"/>
              </a:rPr>
              <a:t>eversibil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V</a:t>
            </a:r>
            <a:r>
              <a:rPr b="0" lang="en-GB" sz="2800" spc="-1" strike="noStrike">
                <a:solidFill>
                  <a:srgbClr val="ffffff"/>
                </a:solidFill>
                <a:latin typeface="Tahoma"/>
              </a:rPr>
              <a:t>arie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Frequency</a:t>
            </a:r>
            <a:endParaRPr b="0" lang="en-US" sz="4400" spc="-1" strike="noStrike">
              <a:solidFill>
                <a:srgbClr val="ffffcc"/>
              </a:solidFill>
              <a:latin typeface="Tahoma"/>
            </a:endParaRPr>
          </a:p>
        </p:txBody>
      </p:sp>
      <p:sp>
        <p:nvSpPr>
          <p:cNvPr id="10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r Adaptation to occur there needs to be consistent regular stress on the muscles and energy system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ch activity swim, cycle, run will require training during teach week leading up to the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 will need to prioritise depending on your strengths/weaknesses in each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eful not to over train and cause inju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3:29:19Z</dcterms:created>
  <dc:creator>victoryg</dc:creator>
  <dc:description/>
  <dc:language>en-US</dc:language>
  <cp:lastModifiedBy>Ministry of Education</cp:lastModifiedBy>
  <dcterms:modified xsi:type="dcterms:W3CDTF">2011-02-01T21:13:32Z</dcterms:modified>
  <cp:revision>23</cp:revision>
  <dc:subject/>
  <dc:title>GCSE Physical Education</dc:title>
</cp:coreProperties>
</file>