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3.wmf" ContentType="image/x-wmf"/>
  <Override PartName="/ppt/media/image8.wmf" ContentType="image/x-wmf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12.wmf" ContentType="image/x-wmf"/>
  <Override PartName="/ppt/media/image6.jpeg" ContentType="image/jpeg"/>
  <Override PartName="/ppt/media/image9.wmf" ContentType="image/x-wmf"/>
  <Override PartName="/ppt/media/image5.jpeg" ContentType="image/jpeg"/>
  <Override PartName="/ppt/media/image18.wmf" ContentType="image/x-wmf"/>
  <Override PartName="/ppt/media/image26.jpeg" ContentType="image/jpeg"/>
  <Override PartName="/ppt/media/image24.wmf" ContentType="image/x-wmf"/>
  <Override PartName="/ppt/media/image23.wmf" ContentType="image/x-wmf"/>
  <Override PartName="/ppt/media/image20.jpeg" ContentType="image/jpeg"/>
  <Override PartName="/ppt/media/image17.wmf" ContentType="image/x-wmf"/>
  <Override PartName="/ppt/media/image21.wmf" ContentType="image/x-wmf"/>
  <Override PartName="/ppt/media/image19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22.jpeg" ContentType="image/jpeg"/>
  <Override PartName="/ppt/media/image15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CF18-3C87-4DB8-B924-7BFDD4F5E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E9DD-CD75-41E4-8775-6075FC9E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2459-B884-46F9-B960-A6113754C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80D7-1C60-479A-86F5-C6EC79150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B1C7-EEFE-487A-B085-8E14DDC3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CC72-2A72-455B-9999-9A8C27D6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A576-259F-4ADC-9F0F-C9B716AF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5198-0C71-43BB-9303-A5BF663E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94ED-2FC3-4A98-AA44-33CC4A25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305C-ABCE-4A64-8411-431DC506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8919-304E-44C8-9562-DA65CD7E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AE40-50F2-492A-BC32-0F4A1596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1C8F-AB34-4479-AA08-4C02602B5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farm2.static.flickr.com/1007/532422593_8febd6bd3b.jpg?v=0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www.woodbridgerugbyclub.co.uk/site/images/10580/071007WWvsIP_P01.jpg&amp;imgrefurl=http://www.woodbridgerugbyclub.co.uk/modules/page/Page.aspx%3Fpc%3Djuniors%26mid%3D18388%26pmid%3D0&amp;h=600&amp;w=900&amp;sz=58&amp;hl=en&amp;start=1&amp;tbnid=cjXH6DjdygRGBM:&amp;tbnh=97&amp;tbnw=146&amp;prev=/images%3Fq%3Dchild%2Brugby%26gbv%3D2%26hl%3Den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.nz/imgres?imgurl=http://www.blogcadre.com/files/images/evangeline_lilly_trophy.preview.jpg&amp;imgrefurl=http://www.blogcadre.com/images/jason_striegel/bump_evangeline_lilly_contest_trophy_2006_05_16_11_54_18&amp;h=420&amp;w=420&amp;sz=12&amp;hl=en&amp;start=1&amp;tbnid=pVp6zpRC4P6qKM:&amp;tbnh=125&amp;tbnw=125&amp;prev=/images%3Fq%3Dtrophy%26gbv%3D2%26hl%3Den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www-static.sportingpulse.com/pics/05/45/54520_firstImageIMG.jpg&amp;imgrefurl=http://www.sportingpulse.com/assoc_page.cgi%3Fc%3D1-2406-0-0-0%26sID%3D20977&amp;h=253&amp;w=300&amp;sz=21&amp;hl=en&amp;start=1&amp;tbnid=Xq_3fFd_jZNyPM:&amp;tbnh=98&amp;tbnw=116&amp;prev=/images%3Fq%3Dsparc%2Bnz%26gbv%3D2%26hl%3Den%26sa%3DX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www.dorsetforyou.com/media/images/r/b/Man_in_Wheelchair.jpg&amp;imgrefurl=http://www.dorsetforyou.com/index.jsp%3Farticleid%3D2190&amp;h=317&amp;w=321&amp;sz=11&amp;hl=en&amp;start=7&amp;tbnid=SEjAgEjQKiPrOM:&amp;tbnh=117&amp;tbnw=118&amp;prev=/images%3Fq%3Dphysical%2Bdisability%26gbv%3D2%26hl%3Den%26sa%3D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.nz/imgres?imgurl=http://www.more4kids.info/uploads/Image/nov07/peer-pressure.jpg&amp;imgrefurl=http://www.more4kids.info/index.php%3Ftag%3Dteaching-family-values&amp;h=221&amp;w=333&amp;sz=23&amp;hl=en&amp;start=16&amp;tbnid=TSdAkiuyWAZ_AM:&amp;tbnh=79&amp;tbnw=119&amp;prev=/images%3Fq%3Dpeer%2Bpressure%26gbv%3D2%26hl%3Den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4000" spc="-1" strike="noStrike">
                <a:solidFill>
                  <a:srgbClr val="000000"/>
                </a:solidFill>
                <a:latin typeface="Arial"/>
              </a:rPr>
              <a:t>SPORT, PHYSICAL ACTIVITY AND YOUNG PEO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3532320"/>
            <a:ext cx="36720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70581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95440" y="260280"/>
            <a:ext cx="79516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461880"/>
            <a:ext cx="82296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907920"/>
            <a:ext cx="82296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39640" y="260280"/>
            <a:ext cx="7848360" cy="6192720"/>
            <a:chOff x="539640" y="260280"/>
            <a:chExt cx="7848360" cy="619272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539640" y="260280"/>
              <a:ext cx="7848360" cy="35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720000" y="3912840"/>
              <a:ext cx="7313040" cy="254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77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77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1741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6985080" cy="5977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720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5111640" cy="5400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12000" y="1484280"/>
            <a:ext cx="2017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5749920" cy="5041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84720" y="2060640"/>
            <a:ext cx="254484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539640" y="260280"/>
            <a:ext cx="5184360" cy="6193080"/>
            <a:chOff x="539640" y="260280"/>
            <a:chExt cx="5184360" cy="619308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539640" y="260280"/>
              <a:ext cx="5184360" cy="32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>
              <a:off x="923040" y="3628440"/>
              <a:ext cx="4357440" cy="282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57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57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508720" y="4076640"/>
            <a:ext cx="3087720" cy="1938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5940360" y="1557360"/>
            <a:ext cx="223848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n the past, being young has been associated with being “naturally active” and participating in regular physical activity as part of daily life. The current reality is something different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ose sedentary adolescent youth are at increased risk of negative health consequences…</a:t>
            </a:r>
            <a:br>
              <a:rPr sz="2000"/>
            </a:b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coronary heart disease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compromised bone health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impaired psychological well-being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overweight/obese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lifelong low activity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148360" y="4149720"/>
            <a:ext cx="230004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New Zealand research shows the main motivators for keeping youth in </a:t>
            </a:r>
            <a:r>
              <a:rPr b="1" i="1" lang="en-NZ" sz="2000" spc="-1" strike="noStrike">
                <a:solidFill>
                  <a:srgbClr val="000000"/>
                </a:solidFill>
                <a:latin typeface="Arial"/>
              </a:rPr>
              <a:t>sport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are: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team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competition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mastery of skills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extrinsic rewards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  fitness and being active </a:t>
            </a:r>
            <a:br>
              <a:rPr sz="2000"/>
            </a:b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While New Zealanders are passionate about sport, this does not always translate into being actively involved.</a:t>
            </a:r>
            <a:br>
              <a:rPr sz="2000"/>
            </a:br>
            <a:br>
              <a:rPr sz="2000"/>
            </a:br>
            <a:r>
              <a:rPr b="1" i="1" lang="en-NZ" sz="2000" spc="-1" strike="noStrike">
                <a:solidFill>
                  <a:srgbClr val="000000"/>
                </a:solidFill>
                <a:latin typeface="Arial"/>
              </a:rPr>
              <a:t>Although sport is important to promote, there is a need to promote a wide-range of physical activity options  in a variety of settings that will appeal to the majority of adolesc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1989000"/>
            <a:ext cx="1965240" cy="1306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56000" y="1557360"/>
            <a:ext cx="11908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nefits of sport and physical activity for young people</a:t>
            </a:r>
            <a:br>
              <a:rPr sz="24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Weight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Psychological well-being (e.g.-  greater opportunity for soci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on and improvements in self-esteem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Additional benefits (e.g.- improved academic achievement, low dru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Negative health outcomes (e.g.- overuse injuries, ligament/musc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juries,  exercise-induced sudden cardiac death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Delaying the onset of chronic disease (e.g.- Coronary heart disease,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ne health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Lifelong maintenance of physical activ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tivators for physical activity</a:t>
            </a:r>
            <a:br>
              <a:rPr sz="24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ng the factors that motivate young people to participate in sport and physical activity is crucial when planning intervention programmes designed to promote activity to youth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arge body of literature exists on participation motives for specific sports and the main motives included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ocial benefits (e.g., fun, enjoyment, socialising with friend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sychological enhancement (e.g., sense of achievement, prid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hysical sensation (e.g., enhanced sleep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ports perform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ognitive benefits (e.g., clears mind and thinking, academ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hiev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2005, SPARC investigated the attitudes, barriers and motivators for sport participation of New Zealand 11 to 14 year olds. Barriers were classified as either functional or emotive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al barri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dentified were aspects of life and the environment that youth perceived they have little or no control over (e.g., financial constraints)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otive barri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volved around their feelings of low self-confidence, of not being good enough, and the fear of gaining unwanted attention associated with body im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476280"/>
            <a:ext cx="110484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verview of barriers to participating in sport as identified in the SPARC Report –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al barrier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riority for educational achieve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ck of tim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ck of access (financial/logistical/school related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hysica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ck of awareness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otive barri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ow self-confid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Body image/obesi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ck of perceived opportunity to demonstrate skill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ck of support from fami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e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erceived lack of futur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1628640"/>
            <a:ext cx="1411200" cy="1398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8000" y="4581360"/>
            <a:ext cx="1781280" cy="11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789520" cy="1057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8136000" cy="4537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40" y="1102320"/>
            <a:ext cx="210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92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ff66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2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0" y="413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27000" y="260280"/>
            <a:ext cx="72900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3T22:01:17Z</dcterms:created>
  <dc:creator>willmoa</dc:creator>
  <dc:description/>
  <dc:language>en-US</dc:language>
  <cp:lastModifiedBy>Ministry of Education</cp:lastModifiedBy>
  <dcterms:modified xsi:type="dcterms:W3CDTF">2010-05-09T22:02:44Z</dcterms:modified>
  <cp:revision>5</cp:revision>
  <dc:subject/>
  <dc:title>SPORT, PHYSICAL ACTIVITY AND YOUNG PEOPLE</dc:title>
</cp:coreProperties>
</file>