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6.jpeg" ContentType="image/jpeg"/>
  <Override PartName="/ppt/media/image24.wmf" ContentType="image/x-wmf"/>
  <Override PartName="/ppt/media/image23.wmf" ContentType="image/x-wmf"/>
  <Override PartName="/ppt/media/image20.jpeg" ContentType="image/jpeg"/>
  <Override PartName="/ppt/media/image17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438-E46B-4C7C-AC69-CB07302B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932-B4E8-4488-93C7-9628D649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0B2-5AAE-400A-BDDB-5C913B43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CFE-0EC1-471C-B757-DACEEB55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6A3-B633-415A-A473-7E89504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2E3-52E3-4CA7-866C-00C54FBF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B92-6138-4066-833C-843CF9A4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0A3-04C7-4A5B-A831-4BD781AA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D0E-E1B9-469E-8666-48F58AD0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8E3-B862-4F2C-8A74-C5C43307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2BB-9BC1-468A-BD04-8A03BDA9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3DB-485A-4FDF-98F9-5DF719A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1D04-D4DC-4857-9052-5B96CFEB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rm2.static.flickr.com/1007/532422593_8febd6bd3b.jpg?v=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oodbridgerugbyclub.co.uk/site/images/10580/071007WWvsIP_P01.jpg&amp;imgrefurl=http://www.woodbridgerugbyclub.co.uk/modules/page/Page.aspx%3Fpc%3Djuniors%26mid%3D18388%26pmid%3D0&amp;h=600&amp;w=900&amp;sz=58&amp;hl=en&amp;start=1&amp;tbnid=cjXH6DjdygRGBM:&amp;tbnh=97&amp;tbnw=146&amp;prev=/images%3Fq%3Dchild%2Brugb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www.blogcadre.com/files/images/evangeline_lilly_trophy.preview.jpg&amp;imgrefurl=http://www.blogcadre.com/images/jason_striegel/bump_evangeline_lilly_contest_trophy_2006_05_16_11_54_18&amp;h=420&amp;w=420&amp;sz=12&amp;hl=en&amp;start=1&amp;tbnid=pVp6zpRC4P6qKM:&amp;tbnh=125&amp;tbnw=125&amp;prev=/images%3Fq%3Dtrophy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-static.sportingpulse.com/pics/05/45/54520_firstImageIMG.jpg&amp;imgrefurl=http://www.sportingpulse.com/assoc_page.cgi%3Fc%3D1-2406-0-0-0%26sID%3D20977&amp;h=253&amp;w=300&amp;sz=21&amp;hl=en&amp;start=1&amp;tbnid=Xq_3fFd_jZNyPM:&amp;tbnh=98&amp;tbnw=116&amp;prev=/images%3Fq%3Dsparc%2Bnz%26gbv%3D2%26hl%3Den%26sa%3D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dorsetforyou.com/media/images/r/b/Man_in_Wheelchair.jpg&amp;imgrefurl=http://www.dorsetforyou.com/index.jsp%3Farticleid%3D2190&amp;h=317&amp;w=321&amp;sz=11&amp;hl=en&amp;start=7&amp;tbnid=SEjAgEjQKiPrOM:&amp;tbnh=117&amp;tbnw=118&amp;prev=/images%3Fq%3Dphysical%2Bdisability%26gbv%3D2%26hl%3Den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.nz/imgres?imgurl=http://www.more4kids.info/uploads/Image/nov07/peer-pressure.jpg&amp;imgrefurl=http://www.more4kids.info/index.php%3Ftag%3Dteaching-family-values&amp;h=221&amp;w=333&amp;sz=23&amp;hl=en&amp;start=16&amp;tbnid=TSdAkiuyWAZ_AM:&amp;tbnh=79&amp;tbnw=119&amp;prev=/images%3Fq%3Dpeer%2Bpressure%26gbv%3D2%26hl%3D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SPORT, PHYSICAL ACTIVITY AND YOUNG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32320"/>
            <a:ext cx="3672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951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6188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9640" y="260280"/>
            <a:ext cx="7848360" cy="6192720"/>
            <a:chOff x="539640" y="260280"/>
            <a:chExt cx="7848360" cy="61927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7848360" cy="35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20000" y="3912840"/>
              <a:ext cx="7313040" cy="25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74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98508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720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5111640" cy="540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01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749920" cy="504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25448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9640" y="260280"/>
            <a:ext cx="5184360" cy="6193080"/>
            <a:chOff x="539640" y="260280"/>
            <a:chExt cx="5184360" cy="61930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5184360" cy="32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923040" y="3628440"/>
              <a:ext cx="4357440" cy="282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3087720" cy="193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22384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 the past, being young has been associated with being “naturally active” and participating in regular physical activity as part of daily life. The current reality is something different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ose sedentary adolescent youth are at increased risk of negative health consequences…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ronary heart disea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romised bone health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impaired psychological well-being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overweight/obe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lifelong low activity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23000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w Zealand research shows the main motivators for keeping youth in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por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re: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team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etition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mastery of skill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extrinsic reward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fitness and being active 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le New Zealanders are passionate about sport, this does not always translate into being actively involved.</a:t>
            </a:r>
            <a:br>
              <a:rPr sz="2000"/>
            </a:br>
            <a:br>
              <a:rPr sz="2000"/>
            </a:b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Although sport is important to promote, there is a need to promote a wide-range of physical activity options  in a variety of settings that will appeal to the majority of adoles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989000"/>
            <a:ext cx="1965240" cy="130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55736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of sport and physical activity for young people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Weight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Psychological well-being (e.g.-  greater opportunity for soc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nd improvements in self-estee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dditional benefits (e.g.- improved academic achievement, low dru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Negative health outcomes (e.g.- overuse injuries, ligament/musc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ies,  exercise-induced sudden cardiac dea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Delaying the onset of chronic disease (e.g.- Coronary heart disease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heal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Lifelong maintenance of physical activ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tivators for physical activity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factors that motivate young people to participate in sport and physical activity is crucial when planning intervention programmes designed to promote activity to youth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body of literature exists on participation motives for specific sports and the main motives included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ocial benefits (e.g., fun, enjoyment, socialising with friend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sychological enhancement (e.g., sense of achievement, prid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 sensation (e.g., enhanced slee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rts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gnitive benefits (e.g., clears mind and thinking, acade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SPARC investigated the attitudes, barriers and motivators for sport participation of New Zealand 11 to 14 year olds. Barriers were classified as either functional or emotiv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d were aspects of life and the environment that youth perceived they have little or no control over (e.g., financial constraints)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olved around their feelings of low self-confidence, of not being good enough, and the fear of gaining unwanted attention associated with body im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76280"/>
            <a:ext cx="11048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view of barriers to participating in sport as identified in the SPARC Report –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ority for educational achiev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ccess (financial/logistical/school relate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waren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w self-confid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ody image/obes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perceived opportunity to demonstrate skil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support from fami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ceived lack of futu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411200" cy="139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4581360"/>
            <a:ext cx="178128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8952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1102320"/>
            <a:ext cx="210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0" y="413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27000" y="260280"/>
            <a:ext cx="7290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2:01:17Z</dcterms:created>
  <dc:creator>willmoa</dc:creator>
  <dc:description/>
  <dc:language>en-US</dc:language>
  <cp:lastModifiedBy>Ministry of Education</cp:lastModifiedBy>
  <dcterms:modified xsi:type="dcterms:W3CDTF">2010-05-09T22:02:44Z</dcterms:modified>
  <cp:revision>5</cp:revision>
  <dc:subject/>
  <dc:title>SPORT, PHYSICAL ACTIVITY AND YOUNG PEOPLE</dc:title>
</cp:coreProperties>
</file>