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B4C54-1C60-483F-BA7F-EF3F001B5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42487-A621-4F3E-9F6D-91329F24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44CF7-907E-4484-A0F3-DD2EFCAFE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1D571-7014-4017-A8E1-0BBF96D85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FBD5-F958-44B3-81DD-F95F58190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B4C7-CC07-46F9-B943-40D7E8EB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BE39-8050-4B1A-941C-CC718E1C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9E129-2E1D-4B72-BF91-12C3EE36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03EF-D547-44D0-BEB0-D4EDC8EE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C3E1-BABC-4C74-B366-115D5632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D9FDC-1E05-4BC2-B7B7-CB6B043D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F1147-72D3-4182-8D32-0554BC15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09B32-E5D8-4AC2-84C8-53CBEB6A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7479-DD04-4095-8FD5-1E2F4DDC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5FF3-944D-43EA-9B23-30854E0B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ADF4-7464-43D6-8F6B-0A93BBAF8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4E05D-6E9F-4031-910D-85CD35FCF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E03B7-87DA-40A6-A160-3833BD1E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DF9EE-6B7F-4BEA-9CC2-20EEFC12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7DAA3-6889-47C7-878C-398A70E2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C6B74-4A7B-4DBF-9F35-89E0BE01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11B3E-37F5-42C2-A927-2BF902F6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42776-D2E4-45DC-8E44-B33EE0E3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6297D-8450-4DCB-B70F-E5636EF2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0F53-6FAB-4118-B2FA-9BD95DC6D6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ECF6-966F-4A12-B012-467CF04729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e5e5ff"/>
                </a:solidFill>
                <a:latin typeface="Comic Sans MS"/>
              </a:rPr>
              <a:t>Movement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3316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ff"/>
                </a:solidFill>
                <a:latin typeface="Comic Sans MS"/>
              </a:rPr>
              <a:t>Flexion 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= angle of the joint decrea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Shoulder flexion = the shoulder rotates 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anti-clockwi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Elbo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Extension = angle at the joint increa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Shoulder extension = the shoulder rotates 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clockwi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Elbo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Comic Sans MS"/>
              </a:rPr>
              <a:t>Move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ff"/>
                </a:solidFill>
                <a:latin typeface="Comic Sans MS"/>
              </a:rPr>
              <a:t>Abduction 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= the limb moves away from the midline of the bod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Adduction = the limb moves towards the midline of the bod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Comic Sans MS"/>
              </a:rPr>
              <a:t>Muscl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When a joint flexes or extends ONLY one set of muscles work at a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Eg if the knee flexes….. the hamstrings are working while the quads relax…If the knee extends then the quads are working while the hamstrings relax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Comic Sans MS"/>
              </a:rPr>
              <a:t>Biomechanical Principa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ff"/>
                </a:solidFill>
                <a:latin typeface="Comic Sans MS"/>
              </a:rPr>
              <a:t>Inerti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The weight of an object is it’s inerti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To move some thing we have to over this inert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We do this using the muscles of our body in a coordinated fashion to create the amount of force we wa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Comic Sans MS"/>
              </a:rPr>
              <a:t>Biomechanical Principa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ff"/>
                </a:solidFill>
                <a:latin typeface="Comic Sans MS"/>
              </a:rPr>
              <a:t>Action/Reac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For every action there is an equal opposite rea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Our muscles generate force to the bal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The ball hitting our hand is the action and the reaction is the force our hand has crea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Action reaction happens between joints as well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Comic Sans MS"/>
              </a:rPr>
              <a:t>Biomechanical Principa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ff"/>
                </a:solidFill>
                <a:latin typeface="Comic Sans MS"/>
              </a:rPr>
              <a:t>Projectile motio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The bal travels in a parabolic path (curve) which is dependent on the amount force that is appli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Speed of releas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Angle of releas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Height of releas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Comic Sans MS"/>
              </a:rPr>
              <a:t>Biomechanical Principa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ff"/>
                </a:solidFill>
                <a:latin typeface="Comic Sans MS"/>
              </a:rPr>
              <a:t>Force Summ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Using all the muscles… The force created by large muscles is transferred to the smaller muscles (transfer of momentum) or (transfer of acceleratio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Feet-calves-thighs-hips-abdomen-shoulders-arms-wrist-fing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Comic Sans MS"/>
              </a:rPr>
              <a:t>Biomechanical Principa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ff"/>
                </a:solidFill>
                <a:latin typeface="Comic Sans MS"/>
              </a:rPr>
              <a:t>Lever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The longer the lever the greater the force generat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Our body is a complex lever especially our arms when fully extended during the volleyball serve.  Standing on toes and fully stretching out make our body lever even longer and therefore strong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nistry of Education</cp:lastModifiedBy>
  <dcterms:modified xsi:type="dcterms:W3CDTF">2008-04-03T08:50:4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