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6370D-1E49-45AE-9A45-223F9089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170DA-13B6-45D7-85AB-241AF3EA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4430-73EE-4272-AA92-7321215C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0584F-A09D-4ED1-8370-34A4E284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9993-66CC-405F-A461-4D6B825E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E246-BDDB-47A8-BF80-F717BB1F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FF6E-4361-430F-84CE-B626FD20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7695-98B0-459A-94C9-77FA464F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357F-429A-4F31-8DEA-DD5D45F5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EB22-C1B4-4F86-A71D-C23D0886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22E6-77F8-4195-A89E-FC487C9B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252CE-E887-400F-93BE-7631BEF2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9CB0-56B1-4483-8BEA-482ABBCE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C9F4-A79B-47FE-8885-3504B3CB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563E-6FB7-4FBD-B890-3920A259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A3FB-513B-4D76-9F0C-62CBFDFA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BC17-D001-4AE6-8F2E-25777468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8E7F-7908-44FC-8A47-6CA95A4F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106C8-A752-4A72-87E1-D302C42B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0C60F-78D5-44B4-BDB3-9A641CE8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7906C-20F7-4A7D-98B5-3CF37420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E9FC1-D746-4D8A-A600-D66F9DAA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2CB4C-8D03-4C39-A596-882A6E96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FB2E-DDA5-4562-8BE6-B236E2F0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9DAE-543B-44B6-955C-7589352FEA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BC93-A7B4-48CC-A3B3-0B689D12C6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e5e5ff"/>
                </a:solidFill>
                <a:latin typeface="Comic Sans MS"/>
              </a:rPr>
              <a:t>Movement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Comic Sans MS"/>
              </a:rPr>
              <a:t>Flexion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= angle of the joint decre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Shoulder flexion = the shoulder rotates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anti-clockwi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lb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xtension = angle at the joint incre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Shoulder extension = the shoulder rotates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clockwi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lb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Mov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Comic Sans MS"/>
              </a:rPr>
              <a:t>Abduction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= the limb moves away from the midline of the b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Adduction = the limb moves towards the midline of the b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Musc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When a joint flexes or extends ONLY one set of muscles work at a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g if the knee flexes….. the hamstrings are working while the quads relax…If the knee extends then the quads are working while the hamstrings relax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Biomechanical Princip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Inerti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The weight of an object is it’s inert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To move some thing we have to over this inert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We do this using the muscles of our body in a coordinated fashion to create the amount of force we wa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Biomechanical Princip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Action/Rea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For every action there is an equal opposite re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ur muscles generate force to the ba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The ball hitting our hand is the action and the reaction is the force our hand has cre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Action reaction happens between joints as well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Biomechanical Princip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ff"/>
                </a:solidFill>
                <a:latin typeface="Comic Sans MS"/>
              </a:rPr>
              <a:t>Projectile mo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The bal travels in a parabolic path (curve) which is dependent on the amount force that is appli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Speed of rele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Angle of rele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Height of rele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Biomechanical Princip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Force Summ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Using all the muscles… The force created by large muscles is transferred to the smaller muscles (transfer of momentum) or (transfer of accelera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Feet-calves-thighs-hips-abdomen-shoulders-arms-wrist-fing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Biomechanical Princip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Lever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The longer the lever the greater the force genera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Our body is a complex lever especially our arms when fully extended during the volleyball serve.  Standing on toes and fully stretching out make our body lever even longer and therefore stron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istry of Education</cp:lastModifiedBy>
  <dcterms:modified xsi:type="dcterms:W3CDTF">2008-04-03T08:50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