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D733-1B8C-49D4-A349-40E5C5F1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8659-5312-443C-8587-A2BADB8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8F35-E5D9-4762-AADF-6C9EE5B6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FEF1-5B42-4C09-9AF3-FDAEE91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5EB-B72D-4E82-BFA9-B900B84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1E5-0F5D-4461-A89A-0E1EA5AB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BB97-582D-4DF4-BF8A-9753BCA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A5B-043B-45B4-AEB3-8BAEC44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DDA4-8908-4E23-8A78-AB9689A5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9931-3CEC-4D3F-A583-9C5C44F8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7DB-F8C6-4503-852D-37D6B9A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BB0F-060C-45C5-87F9-7DDA4DA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80F-3561-4FE8-99FA-1FF2BA6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27BE-65EE-45EE-AF80-C2E4D5A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8A1F-1F83-4FAC-B04F-3779299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32C-0209-4041-91BB-CC9634E8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372-A2A3-498D-AA14-7B3A951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035F-040F-4E24-9FD3-E07E3E7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9606-C4A0-4D0A-AF8C-76C3B9B2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A2D9-8A48-48BF-83FD-DB9FC1C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C5FD-2E73-48CF-87EE-0AA20DD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421B-A5B7-4CF7-B7EC-5E21938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2963-EE05-420A-A0AB-8E1CB39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47AF-F4D3-426A-B6DE-517E350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AB1-A211-41EA-BDEB-57226FAEE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3FF4-BFBF-40A4-AB7A-F40C35C6B4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Flex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angle of the joint de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flex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ti-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xtension = angle at the join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houlder extension = the shoulder rotates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lb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Comic Sans MS"/>
              </a:rPr>
              <a:t>Abduction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= the limb moves away from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dduction = the limb moves towards the midline of the 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 joint flexes or extends ONLY one set of muscles work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g if the knee flexes….. the hamstrings are working while the quads relax…If the knee extends then the quads are working while the hamstrings rela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Inerti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weight of an object is it’s inert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o move some thing we have to over this inert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do this using the muscles of our body in a coordinated fashion to create the amount of force we w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Action/Re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For every action there is an equal opposite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ur muscles generate force to the b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he ball hitting our hand is the action and the reaction is the force our hand ha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tion reaction happens between joints as well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omic Sans MS"/>
              </a:rPr>
              <a:t>Projectile mo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bal travels in a parabolic path (curve) which is dependent on the amount force that is appli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peed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ngle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eight of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ce Sum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Using all the muscles… The force created by large muscles is transferred to the smaller muscles (transfer of momentum) or (transfer of accel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et-calves-thighs-hips-abdomen-shoulders-arms-wrist-fi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Comic Sans MS"/>
              </a:rPr>
              <a:t>Biomechanical Princip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Lev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e longer the lever the greater the force gener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Our body is a complex lever especially our arms when fully extended during the volleyball serve.  Standing on toes and fully stretching out make our body lever even longer and therefore stron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4-03T08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