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769F-4A87-46A9-BD70-54AE314A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9CDC-398B-4A1A-89AC-658D804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B328-6773-4CC7-A1FB-55A0B524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E8EC-79C2-428A-8B61-684C6F7B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8A70-8EEF-402F-8A4C-DB90C1E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F672-9609-4AF0-88E2-A78ABD8B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ACB3-E73A-4E07-8154-6DEBD15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BF81-455E-4590-848A-FB60267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B981-A7AD-4B5D-B5CD-730149A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12FB-0580-4169-AF16-7016111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694-F0D9-41FC-8493-4AD5AAC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B736-BB62-4DD0-BAD8-3F03D22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3BA-7552-40C2-AB8A-3E236EC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68D3-9703-4F59-8543-869F8DDC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6DF-1485-4AD7-8679-29BA628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2294-B49B-4726-BE2E-B6F924FA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1BA6-60B6-409F-8BC9-66E9EFE0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D328-B2AE-48AA-A14C-6CBE351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ED53-3B06-47FA-8861-CAA6313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0E84-A904-46FD-980D-5CD1550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53FA-348E-4251-86CE-DD5E149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D52B-2E2A-4727-8F5F-B25697B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25AB-FF3E-4115-8173-0A18B71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E737-6DBE-45F5-BF75-1B31C88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FC54-B59C-4FF9-AA16-A438D0D2B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236-29D0-434C-A5A4-2EF2FB34B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Flex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angle of the joint de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flex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ti-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xtension = angle at the join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extens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Abduct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the limb moves away from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dduction = the limb moves towards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 joint flexes or extends ONLY one set of muscles work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g if the knee flexes….. the hamstrings are working while the quads relax…If the knee extends then the quads are working while the hamstrings rela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Inerti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weight of an object is it’s inert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o move some thing we have to over this inert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do this using the muscles of our body in a coordinated fashion to create the amount of force we w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Action/Re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For every action there is an equal opposite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ur muscles generate force to the b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he ball hitting our hand is the action and the reaction is the force our hand ha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tion reaction happens between joints as well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omic Sans MS"/>
              </a:rPr>
              <a:t>Projectile mo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bal travels in a parabolic path (curve) which is dependent on the amount force that is appli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peed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gle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eight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ce Sum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Using all the muscles… The force created by large muscles is transferred to the smaller muscles (transfer of momentum) or (transfer of accel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et-calves-thighs-hips-abdomen-shoulders-arms-wrist-fi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Lev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longer the lever the greater the force gener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Our body is a complex lever especially our arms when fully extended during the volleyball serve.  Standing on toes and fully stretching out make our body lever even longer and therefore stron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4-03T08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